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C73C-5408-4E8A-9889-FBB9E95AC6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ED3-55BA-45D8-8988-3B3119C487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538-20E6-4D59-A2FE-2967EE1E0D6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6D8-A8CB-418D-A287-95BE8D4E50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B0E-37AB-4B34-BD9E-1D72F90EDC1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E92A-C504-4112-A98B-9D1A4A3C8F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FC7-E3BB-4AB8-B25B-BD1B8F62E1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07D-603D-48E9-B9D8-A3C9EC9727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9DF-E9A3-4C89-84F3-4ED88D11DD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7565-A5DF-4112-A35C-28E54EE351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0D0-A96C-4E84-9F34-4D3FA3852C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95BB-9BAE-4083-BD4F-05D7092480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B589-3D28-4EBE-99DF-0827B6F971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07A7-2B56-42AB-96B0-0C4697DF8F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E848-623B-42FC-AC66-D653AC6108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73D-95F5-44D8-BB60-D1AC6F67FE4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F72A-BF4C-45A0-AD7D-24E43DF77E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B45D-06FF-4F28-861D-BFAF57536AB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31A3-C3DC-41C2-B808-49070298C0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57AB-C122-4BF9-8116-5C12934A27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9764-0698-4B14-AD91-F1A7C39277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27DD-ADFC-40CE-AA1A-ABDBA93A82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5A7D-21C0-4B9A-88F6-183FE6D2889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3C8-64ED-4A32-8425-4B81B62C00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741F-7824-4201-9835-8BB9D659FA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BA2-613A-4E44-AFBB-F3F63496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18D-9BE5-4453-B283-10E168A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D38-90D1-4E91-A7DD-D02ECB9A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CB2-3C54-441C-9F67-E02AE0D2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70A-028B-4160-BAB4-D951C7C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15C-944B-41C3-B406-AEAE892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C74-9DDD-4A21-93C1-9CFEC0B6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4BB-8663-4C52-AC4D-BE9E153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F5D-E493-4A6D-A556-ED4028D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2DE-816D-46E9-8973-26466BA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093-EFD7-4304-B479-73755EA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533-7B53-4820-B506-FFC5DFB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D17-C078-4F9F-9A6A-EA8123E5A5C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BE6E-2ECC-4E78-9BE7-8916C707A78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0"/>
          <p:cNvSpPr/>
          <p:nvPr/>
        </p:nvSpPr>
        <p:spPr>
          <a:xfrm>
            <a:off x="755640" y="47628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0" descr=""/>
          <p:cNvPicPr/>
          <p:nvPr/>
        </p:nvPicPr>
        <p:blipFill>
          <a:blip r:embed="rId1"/>
          <a:stretch/>
        </p:blipFill>
        <p:spPr>
          <a:xfrm>
            <a:off x="19080" y="5419800"/>
            <a:ext cx="4608360" cy="646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79280" y="6165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Crespano del Grappa, 25 Sett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D:\Doc &amp; dati\AFI NAZIONALE\CALENDARI\CALENDARIO 2010\Foto\Zerman\IMG_1185.JPG"/>
          <p:cNvPicPr/>
          <p:nvPr/>
        </p:nvPicPr>
        <p:blipFill>
          <a:blip r:embed="rId2"/>
          <a:stretch/>
        </p:blipFill>
        <p:spPr>
          <a:xfrm>
            <a:off x="3468600" y="225360"/>
            <a:ext cx="5364360" cy="322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Doc &amp; dati\AFI NAZIONALE\CALENDARI\CALENDARIO 2011\20 anni Afi\Udali  e fam.JPG"/>
          <p:cNvPicPr/>
          <p:nvPr/>
        </p:nvPicPr>
        <p:blipFill>
          <a:blip r:embed="rId3"/>
          <a:stretch/>
        </p:blipFill>
        <p:spPr>
          <a:xfrm>
            <a:off x="3103560" y="2077920"/>
            <a:ext cx="6540480" cy="5085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79280" y="2492280"/>
            <a:ext cx="496908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Sostenere la fami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on è una sp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a un invest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LOGO AFI Trasparente 99K"/>
          <p:cNvPicPr/>
          <p:nvPr/>
        </p:nvPicPr>
        <p:blipFill>
          <a:blip r:embed="rId4"/>
          <a:stretch/>
        </p:blipFill>
        <p:spPr>
          <a:xfrm>
            <a:off x="826920" y="40464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85840" y="0"/>
            <a:ext cx="8636040" cy="6534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Grafico 7" descr=""/>
          <p:cNvPicPr/>
          <p:nvPr/>
        </p:nvPicPr>
        <p:blipFill>
          <a:blip r:embed="rId1"/>
          <a:stretch/>
        </p:blipFill>
        <p:spPr>
          <a:xfrm>
            <a:off x="0" y="0"/>
            <a:ext cx="8053560" cy="6437160"/>
          </a:xfrm>
          <a:prstGeom prst="rect">
            <a:avLst/>
          </a:prstGeom>
          <a:ln w="0">
            <a:noFill/>
          </a:ln>
        </p:spPr>
      </p:pic>
      <p:sp>
        <p:nvSpPr>
          <p:cNvPr id="107" name="CasellaDiTesto 9"/>
          <p:cNvSpPr/>
          <p:nvPr/>
        </p:nvSpPr>
        <p:spPr>
          <a:xfrm>
            <a:off x="2714760" y="585792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10"/>
          <p:cNvSpPr/>
          <p:nvPr/>
        </p:nvSpPr>
        <p:spPr>
          <a:xfrm>
            <a:off x="3000240" y="58579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11"/>
          <p:cNvSpPr/>
          <p:nvPr/>
        </p:nvSpPr>
        <p:spPr>
          <a:xfrm>
            <a:off x="3286080" y="585792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12"/>
          <p:cNvSpPr/>
          <p:nvPr/>
        </p:nvSpPr>
        <p:spPr>
          <a:xfrm>
            <a:off x="3995640" y="580536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13"/>
          <p:cNvSpPr/>
          <p:nvPr/>
        </p:nvSpPr>
        <p:spPr>
          <a:xfrm>
            <a:off x="4286160" y="57862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llaDiTesto 14"/>
          <p:cNvSpPr/>
          <p:nvPr/>
        </p:nvSpPr>
        <p:spPr>
          <a:xfrm>
            <a:off x="3643200" y="58579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15"/>
          <p:cNvSpPr/>
          <p:nvPr/>
        </p:nvSpPr>
        <p:spPr>
          <a:xfrm>
            <a:off x="6215040" y="4857840"/>
            <a:ext cx="1357200" cy="5713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TAX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afico 12" descr=""/>
          <p:cNvPicPr/>
          <p:nvPr/>
        </p:nvPicPr>
        <p:blipFill>
          <a:blip r:embed="rId2"/>
          <a:stretch/>
        </p:blipFill>
        <p:spPr>
          <a:xfrm>
            <a:off x="0" y="0"/>
            <a:ext cx="7967520" cy="6864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971640" y="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e politiche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6372360" y="31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Red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4858920" y="3357720"/>
            <a:ext cx="151308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484360" y="3429000"/>
            <a:ext cx="14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du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NO TAX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3348000" y="4437000"/>
            <a:ext cx="863640" cy="1224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17"/>
          <p:cNvSpPr/>
          <p:nvPr/>
        </p:nvSpPr>
        <p:spPr>
          <a:xfrm>
            <a:off x="468360" y="6021360"/>
            <a:ext cx="185724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o compon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ttore 2 18"/>
          <p:cNvCxnSpPr>
            <a:endCxn id="112" idx="1"/>
          </p:cNvCxnSpPr>
          <p:nvPr/>
        </p:nvCxnSpPr>
        <p:spPr>
          <a:xfrm flipV="1">
            <a:off x="2268000" y="6027480"/>
            <a:ext cx="1375560" cy="35136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arrow" w="med"/>
          </a:ln>
        </p:spPr>
      </p:cxnSp>
      <p:sp>
        <p:nvSpPr>
          <p:cNvPr id="122" name="Rettangolo 8"/>
          <p:cNvSpPr/>
          <p:nvPr/>
        </p:nvSpPr>
        <p:spPr>
          <a:xfrm>
            <a:off x="2652120" y="981000"/>
            <a:ext cx="452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Il Fattore Fami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5" descr="Logo Forum"/>
          <p:cNvPicPr/>
          <p:nvPr/>
        </p:nvPicPr>
        <p:blipFill>
          <a:blip r:embed="rId3"/>
          <a:stretch/>
        </p:blipFill>
        <p:spPr>
          <a:xfrm>
            <a:off x="7149960" y="5492880"/>
            <a:ext cx="177480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24000" y="189000"/>
            <a:ext cx="8526240" cy="6408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2"/>
          <p:cNvSpPr/>
          <p:nvPr/>
        </p:nvSpPr>
        <p:spPr>
          <a:xfrm>
            <a:off x="3286080" y="2143080"/>
            <a:ext cx="3500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Detrazioni dal Red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Con  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Reddito di 20.000 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afico 7" descr=""/>
          <p:cNvPicPr/>
          <p:nvPr/>
        </p:nvPicPr>
        <p:blipFill>
          <a:blip r:embed="rId1"/>
          <a:stretch/>
        </p:blipFill>
        <p:spPr>
          <a:xfrm>
            <a:off x="407880" y="390600"/>
            <a:ext cx="8474040" cy="631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Logo Forum"/>
          <p:cNvPicPr/>
          <p:nvPr/>
        </p:nvPicPr>
        <p:blipFill>
          <a:blip r:embed="rId2"/>
          <a:stretch/>
        </p:blipFill>
        <p:spPr>
          <a:xfrm>
            <a:off x="30240" y="5840280"/>
            <a:ext cx="1560600" cy="1047960"/>
          </a:xfrm>
          <a:prstGeom prst="rect">
            <a:avLst/>
          </a:prstGeom>
          <a:ln w="0">
            <a:noFill/>
          </a:ln>
        </p:spPr>
      </p:pic>
      <p:sp>
        <p:nvSpPr>
          <p:cNvPr id="128" name="CasellaDiTesto 2"/>
          <p:cNvSpPr/>
          <p:nvPr/>
        </p:nvSpPr>
        <p:spPr>
          <a:xfrm>
            <a:off x="3348000" y="1557360"/>
            <a:ext cx="3500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Detrazioni dal Red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Figli a ca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Anni  1987 – 2011 con 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Reddito di 20.000 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50920" y="189000"/>
            <a:ext cx="8526240" cy="6408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sellaDiTesto 10"/>
          <p:cNvSpPr/>
          <p:nvPr/>
        </p:nvSpPr>
        <p:spPr>
          <a:xfrm>
            <a:off x="971640" y="18446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l Fattore Famig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26920" y="260280"/>
            <a:ext cx="7632720" cy="1917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Il Fattore fami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quanto costa – quanto rito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ccia a destra 12"/>
          <p:cNvSpPr/>
          <p:nvPr/>
        </p:nvSpPr>
        <p:spPr>
          <a:xfrm>
            <a:off x="4788000" y="1989000"/>
            <a:ext cx="1079280" cy="3603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sellaDiTesto 13"/>
          <p:cNvSpPr/>
          <p:nvPr/>
        </p:nvSpPr>
        <p:spPr>
          <a:xfrm>
            <a:off x="6084720" y="1844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15 Miliar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4"/>
          <p:cNvSpPr/>
          <p:nvPr/>
        </p:nvSpPr>
        <p:spPr>
          <a:xfrm>
            <a:off x="2771640" y="2924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+ 2,5  Miliardi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15"/>
          <p:cNvSpPr/>
          <p:nvPr/>
        </p:nvSpPr>
        <p:spPr>
          <a:xfrm>
            <a:off x="2771640" y="357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+ 2,5  Miliardi IRP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sellaDiTesto 16"/>
          <p:cNvSpPr/>
          <p:nvPr/>
        </p:nvSpPr>
        <p:spPr>
          <a:xfrm>
            <a:off x="2556000" y="4221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+ 200 mila posti di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17"/>
          <p:cNvSpPr/>
          <p:nvPr/>
        </p:nvSpPr>
        <p:spPr>
          <a:xfrm>
            <a:off x="1332000" y="4797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1 milione di famiglie salgono sop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la soglia di pover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8840" y="5859360"/>
            <a:ext cx="734760" cy="73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a (le) manovra (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15"/>
          <p:cNvSpPr/>
          <p:nvPr/>
        </p:nvSpPr>
        <p:spPr>
          <a:xfrm>
            <a:off x="684360" y="1700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iduzione lineare  agevo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2013     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2014    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ccia a destra 16"/>
          <p:cNvSpPr/>
          <p:nvPr/>
        </p:nvSpPr>
        <p:spPr>
          <a:xfrm>
            <a:off x="3287880" y="2270160"/>
            <a:ext cx="2087280" cy="442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17"/>
          <p:cNvSpPr/>
          <p:nvPr/>
        </p:nvSpPr>
        <p:spPr>
          <a:xfrm>
            <a:off x="5580000" y="191628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Detrazioni figli a ca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Medici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18"/>
          <p:cNvSpPr/>
          <p:nvPr/>
        </p:nvSpPr>
        <p:spPr>
          <a:xfrm>
            <a:off x="755640" y="55897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)   Aumento dell’IVA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OGO AFI Trasparente 99K"/>
          <p:cNvPicPr/>
          <p:nvPr/>
        </p:nvPicPr>
        <p:blipFill>
          <a:blip r:embed="rId1"/>
          <a:stretch/>
        </p:blipFill>
        <p:spPr>
          <a:xfrm>
            <a:off x="7596360" y="5372280"/>
            <a:ext cx="1001520" cy="1004760"/>
          </a:xfrm>
          <a:prstGeom prst="rect">
            <a:avLst/>
          </a:prstGeom>
          <a:ln w="0">
            <a:noFill/>
          </a:ln>
        </p:spPr>
      </p:pic>
      <p:sp>
        <p:nvSpPr>
          <p:cNvPr id="147" name="CasellaDiTesto 18"/>
          <p:cNvSpPr/>
          <p:nvPr/>
        </p:nvSpPr>
        <p:spPr>
          <a:xfrm>
            <a:off x="755640" y="3789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)   Riduzione dei trasferimenti agli enti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sellaDiTesto 18"/>
          <p:cNvSpPr/>
          <p:nvPr/>
        </p:nvSpPr>
        <p:spPr>
          <a:xfrm>
            <a:off x="755640" y="465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)   Aumento della partecipazione spesa sanitaria -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a (le) manovra (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co 6" descr=""/>
          <p:cNvPicPr/>
          <p:nvPr/>
        </p:nvPicPr>
        <p:blipFill>
          <a:blip r:embed="rId1"/>
          <a:stretch/>
        </p:blipFill>
        <p:spPr>
          <a:xfrm>
            <a:off x="895320" y="1841400"/>
            <a:ext cx="7364520" cy="4687920"/>
          </a:xfrm>
          <a:prstGeom prst="rect">
            <a:avLst/>
          </a:prstGeom>
          <a:ln w="0">
            <a:noFill/>
          </a:ln>
        </p:spPr>
      </p:pic>
      <p:sp>
        <p:nvSpPr>
          <p:cNvPr id="153" name="CasellaDiTesto 2"/>
          <p:cNvSpPr/>
          <p:nvPr/>
        </p:nvSpPr>
        <p:spPr>
          <a:xfrm>
            <a:off x="1116000" y="12682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1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Manovra di luglio: aumento percentuale delle t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LOGO AFI Trasparente 99K"/>
          <p:cNvPicPr/>
          <p:nvPr/>
        </p:nvPicPr>
        <p:blipFill>
          <a:blip r:embed="rId2"/>
          <a:stretch/>
        </p:blipFill>
        <p:spPr>
          <a:xfrm>
            <a:off x="7885080" y="5661000"/>
            <a:ext cx="934920" cy="9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a (le) manovra (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sellaDiTesto 2"/>
          <p:cNvSpPr/>
          <p:nvPr/>
        </p:nvSpPr>
        <p:spPr>
          <a:xfrm>
            <a:off x="1116000" y="12682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1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</a:rPr>
              <a:t>Nel 2014: aumento percentuale delle t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co 9" descr=""/>
          <p:cNvPicPr/>
          <p:nvPr/>
        </p:nvPicPr>
        <p:blipFill>
          <a:blip r:embed="rId1"/>
          <a:stretch/>
        </p:blipFill>
        <p:spPr>
          <a:xfrm>
            <a:off x="676440" y="1884240"/>
            <a:ext cx="7572240" cy="457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LOGO AFI Trasparente 99K"/>
          <p:cNvPicPr/>
          <p:nvPr/>
        </p:nvPicPr>
        <p:blipFill>
          <a:blip r:embed="rId2"/>
          <a:stretch/>
        </p:blipFill>
        <p:spPr>
          <a:xfrm>
            <a:off x="7956720" y="5589720"/>
            <a:ext cx="1001520" cy="100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a (le) manovra (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co 6" descr=""/>
          <p:cNvPicPr/>
          <p:nvPr/>
        </p:nvPicPr>
        <p:blipFill>
          <a:blip r:embed="rId1"/>
          <a:stretch/>
        </p:blipFill>
        <p:spPr>
          <a:xfrm>
            <a:off x="463680" y="1262160"/>
            <a:ext cx="8143920" cy="534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LOGO AFI Trasparente 99K"/>
          <p:cNvPicPr/>
          <p:nvPr/>
        </p:nvPicPr>
        <p:blipFill>
          <a:blip r:embed="rId2"/>
          <a:stretch/>
        </p:blipFill>
        <p:spPr>
          <a:xfrm>
            <a:off x="7596360" y="5589720"/>
            <a:ext cx="1001520" cy="100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Cosa succederà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395280" y="1484280"/>
          <a:ext cx="8353440" cy="4927680"/>
        </p:xfrm>
        <a:graphic>
          <a:graphicData uri="http://schemas.openxmlformats.org/drawingml/2006/table">
            <a:tbl>
              <a:tblPr/>
              <a:tblGrid>
                <a:gridCol w="1670040"/>
                <a:gridCol w="1569960"/>
                <a:gridCol w="1656000"/>
                <a:gridCol w="1614240"/>
                <a:gridCol w="1843200"/>
              </a:tblGrid>
              <a:tr h="1513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Provvedimenti previsti dalla manovra finanz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con fig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. con figli e nonni e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Anziani soli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senza figli e no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Single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414600">
                <a:tc>
                  <a:txBody>
                    <a:bodyPr lIns="67320" rIns="6732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9900"/>
                          </a:solidFill>
                          <a:latin typeface="Calibri"/>
                          <a:ea typeface="Calibri"/>
                        </a:rPr>
                        <a:t>Minori trasferimenti dello Stato a Regioni ed enti loc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mensa e trasporto scola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rette asili 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trasp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179280" indent="-1648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mensa e trasporto scola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648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rette asili 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648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sostegno alla disabi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648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trasp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- trasp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- trasp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Cosa succederà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395280" y="1484280"/>
          <a:ext cx="8353440" cy="4927680"/>
        </p:xfrm>
        <a:graphic>
          <a:graphicData uri="http://schemas.openxmlformats.org/drawingml/2006/table">
            <a:tbl>
              <a:tblPr/>
              <a:tblGrid>
                <a:gridCol w="1670040"/>
                <a:gridCol w="1569960"/>
                <a:gridCol w="1656000"/>
                <a:gridCol w="1614240"/>
                <a:gridCol w="1843200"/>
              </a:tblGrid>
              <a:tr h="1513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Provvedimenti previsti dalla manovra finanz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con fig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. con figli e nonni e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Anziani soli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senza figli e no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Single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414600">
                <a:tc>
                  <a:txBody>
                    <a:bodyPr lIns="68760" rIns="68760" tIns="0" bIns="0" anchor="t">
                      <a:noAutofit/>
                    </a:bodyPr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Riduzione del fìnanziamento alle regioni per l'assistenza sani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ssistenza sanitaria (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ssistenza sanitaria 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ssistenza sanitaria (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ssistenza sani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Cosa succederà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395280" y="1484280"/>
          <a:ext cx="8353440" cy="4927680"/>
        </p:xfrm>
        <a:graphic>
          <a:graphicData uri="http://schemas.openxmlformats.org/drawingml/2006/table">
            <a:tbl>
              <a:tblPr/>
              <a:tblGrid>
                <a:gridCol w="1670040"/>
                <a:gridCol w="1569960"/>
                <a:gridCol w="1656000"/>
                <a:gridCol w="1614240"/>
                <a:gridCol w="1843200"/>
              </a:tblGrid>
              <a:tr h="1513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Provvedimenti previsti dalla manovra finanz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con fig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. con figli e nonni e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Anziani soli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senza figli e no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Single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4146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Obbligo per le regioni ad incrementare la quota di partecipazione alla spesa da parte del cittad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Ticket sanit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Ticket  sani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66760" indent="-18432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Ticket  sanit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184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Ticket sani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e politiche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6"/>
          <p:cNvSpPr/>
          <p:nvPr/>
        </p:nvSpPr>
        <p:spPr>
          <a:xfrm>
            <a:off x="468360" y="1413000"/>
            <a:ext cx="8281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Sostenere la fami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-  Prevenzione delle situazioni di  disa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-  Ridurre le necessità di interventi assisten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ccia in giù 7"/>
          <p:cNvSpPr/>
          <p:nvPr/>
        </p:nvSpPr>
        <p:spPr>
          <a:xfrm>
            <a:off x="4140360" y="2276640"/>
            <a:ext cx="647640" cy="93636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OGO AFI Trasparente 99K"/>
          <p:cNvPicPr/>
          <p:nvPr/>
        </p:nvPicPr>
        <p:blipFill>
          <a:blip r:embed="rId1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Cosa succederà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395280" y="1484280"/>
          <a:ext cx="8353440" cy="4927680"/>
        </p:xfrm>
        <a:graphic>
          <a:graphicData uri="http://schemas.openxmlformats.org/drawingml/2006/table">
            <a:tbl>
              <a:tblPr/>
              <a:tblGrid>
                <a:gridCol w="1670040"/>
                <a:gridCol w="1569960"/>
                <a:gridCol w="1656000"/>
                <a:gridCol w="1614240"/>
                <a:gridCol w="1843200"/>
              </a:tblGrid>
              <a:tr h="1513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Provvedimenti previsti dalla manovra finanz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con fig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. con figli e nonni e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Anziani soli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senza figli e no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Single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414600">
                <a:tc>
                  <a:txBody>
                    <a:bodyPr lIns="68760" rIns="68760" tIns="0" bIns="0" anchor="t">
                      <a:noAutofit/>
                    </a:bodyPr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Aggravio fiscale per le coo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indent="-16488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mensa e trasporto scola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6488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rette asili 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mensa e trasporto scola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rette asili 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sostegno alla disabi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sostegno alla disabi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Cosa succederà 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395280" y="1484280"/>
          <a:ext cx="8353440" cy="4927680"/>
        </p:xfrm>
        <a:graphic>
          <a:graphicData uri="http://schemas.openxmlformats.org/drawingml/2006/table">
            <a:tbl>
              <a:tblPr/>
              <a:tblGrid>
                <a:gridCol w="1670040"/>
                <a:gridCol w="1569960"/>
                <a:gridCol w="1656000"/>
                <a:gridCol w="1614240"/>
                <a:gridCol w="1843200"/>
              </a:tblGrid>
              <a:tr h="1513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Provvedimenti previsti dalla manovra finanz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con fig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. con figli e nonni e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Anziani soli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senza figli e no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Single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414600">
                <a:tc>
                  <a:txBody>
                    <a:bodyPr lIns="68760" rIns="68760" tIns="0" bIns="0" anchor="t">
                      <a:noAutofit/>
                    </a:bodyPr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Taglio lineare di tutte le agevolazioni/riduzioni fisc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IRPEF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IRPEF redditi bassi 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IRPEF proporzionale ai figli  a carico 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IRPEF (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IRPEF redditi bassi 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IRPEF proporzionale ai figli  a carico 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01520" indent="-10152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- Aumento IRPEF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0152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- Aumento IRP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Cosa succederà 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395280" y="1484280"/>
          <a:ext cx="8353440" cy="4927680"/>
        </p:xfrm>
        <a:graphic>
          <a:graphicData uri="http://schemas.openxmlformats.org/drawingml/2006/table">
            <a:tbl>
              <a:tblPr/>
              <a:tblGrid>
                <a:gridCol w="1670040"/>
                <a:gridCol w="1569960"/>
                <a:gridCol w="1656000"/>
                <a:gridCol w="1614240"/>
                <a:gridCol w="1843200"/>
              </a:tblGrid>
              <a:tr h="1513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Provvedimenti previsti dalla manovra finanz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con fig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. con figli e nonni e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Anziani soli non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Famiglia senza figli e no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Calibri"/>
                          <a:ea typeface="Calibri"/>
                        </a:rPr>
                        <a:t>Single autosuffic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414600">
                <a:tc>
                  <a:txBody>
                    <a:bodyPr lIns="68760" rIns="68760" tIns="0" bIns="0" anchor="t">
                      <a:noAutofit/>
                    </a:bodyPr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Aumento dell’IVA dal 20 al 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delle spese (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delle spese (++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delle spese (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ffff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umento delle spese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e propo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LOGO AFI Trasparente 99K"/>
          <p:cNvPicPr/>
          <p:nvPr/>
        </p:nvPicPr>
        <p:blipFill>
          <a:blip r:embed="rId1"/>
          <a:stretch/>
        </p:blipFill>
        <p:spPr>
          <a:xfrm>
            <a:off x="250920" y="5661000"/>
            <a:ext cx="1001520" cy="100476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8"/>
          <p:cNvSpPr/>
          <p:nvPr/>
        </p:nvSpPr>
        <p:spPr>
          <a:xfrm>
            <a:off x="4643280" y="1197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evisione dell’I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9"/>
          <p:cNvSpPr/>
          <p:nvPr/>
        </p:nvSpPr>
        <p:spPr>
          <a:xfrm>
            <a:off x="4643280" y="2060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attore Fam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sellaDiTesto 10"/>
          <p:cNvSpPr/>
          <p:nvPr/>
        </p:nvSpPr>
        <p:spPr>
          <a:xfrm>
            <a:off x="1116000" y="2852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tta all’eva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sellaDiTesto 11"/>
          <p:cNvSpPr/>
          <p:nvPr/>
        </p:nvSpPr>
        <p:spPr>
          <a:xfrm>
            <a:off x="1042920" y="342900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iduzione drastica dei costi del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12"/>
          <p:cNvSpPr/>
          <p:nvPr/>
        </p:nvSpPr>
        <p:spPr>
          <a:xfrm>
            <a:off x="971640" y="155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EQUITA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ccia a destra 13"/>
          <p:cNvSpPr/>
          <p:nvPr/>
        </p:nvSpPr>
        <p:spPr>
          <a:xfrm rot="21059400">
            <a:off x="3348000" y="1557360"/>
            <a:ext cx="122400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ccia a destra 14"/>
          <p:cNvSpPr/>
          <p:nvPr/>
        </p:nvSpPr>
        <p:spPr>
          <a:xfrm rot="921000">
            <a:off x="3344760" y="2076120"/>
            <a:ext cx="122400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sellaDiTesto 15"/>
          <p:cNvSpPr/>
          <p:nvPr/>
        </p:nvSpPr>
        <p:spPr>
          <a:xfrm>
            <a:off x="6012000" y="3068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Recupero ris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ccia a destra 16"/>
          <p:cNvSpPr/>
          <p:nvPr/>
        </p:nvSpPr>
        <p:spPr>
          <a:xfrm rot="11718000">
            <a:off x="4713120" y="3300120"/>
            <a:ext cx="122400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ccia a destra 17"/>
          <p:cNvSpPr/>
          <p:nvPr/>
        </p:nvSpPr>
        <p:spPr>
          <a:xfrm rot="9997800">
            <a:off x="4716000" y="3855600"/>
            <a:ext cx="1224000" cy="14472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sellaDiTesto 18"/>
          <p:cNvSpPr/>
          <p:nvPr/>
        </p:nvSpPr>
        <p:spPr>
          <a:xfrm>
            <a:off x="1116000" y="4869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Richiesta di ris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ccia a destra 19"/>
          <p:cNvSpPr/>
          <p:nvPr/>
        </p:nvSpPr>
        <p:spPr>
          <a:xfrm rot="921000">
            <a:off x="3344760" y="5748120"/>
            <a:ext cx="122400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20"/>
          <p:cNvSpPr/>
          <p:nvPr/>
        </p:nvSpPr>
        <p:spPr>
          <a:xfrm>
            <a:off x="5003640" y="4869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chi più ne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sellaDiTesto 21"/>
          <p:cNvSpPr/>
          <p:nvPr/>
        </p:nvSpPr>
        <p:spPr>
          <a:xfrm>
            <a:off x="5076720" y="573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tutti equ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ccia a destra 22"/>
          <p:cNvSpPr/>
          <p:nvPr/>
        </p:nvSpPr>
        <p:spPr>
          <a:xfrm rot="21059400">
            <a:off x="3351240" y="5180040"/>
            <a:ext cx="122400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0E2F-E93C-4214-9EB6-158E8F55C7A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512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28600" y="228600"/>
            <a:ext cx="8636040" cy="6248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71680" y="2571840"/>
            <a:ext cx="782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AFI - Associazione delle Famig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Arial"/>
              </a:rPr>
              <a:t>Confederazione Ita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afi@afifamiglia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00"/>
                </a:solidFill>
                <a:latin typeface="Arial"/>
              </a:rPr>
              <a:t>web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www.afifamiglia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3" descr="LOGO AFI Trasparente 99K"/>
          <p:cNvPicPr/>
          <p:nvPr/>
        </p:nvPicPr>
        <p:blipFill>
          <a:blip r:embed="rId1"/>
          <a:stretch/>
        </p:blipFill>
        <p:spPr>
          <a:xfrm>
            <a:off x="3067200" y="682560"/>
            <a:ext cx="3041640" cy="2401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Logo Forum"/>
          <p:cNvPicPr/>
          <p:nvPr/>
        </p:nvPicPr>
        <p:blipFill>
          <a:blip r:embed="rId2"/>
          <a:stretch/>
        </p:blipFill>
        <p:spPr>
          <a:xfrm>
            <a:off x="7070760" y="5145120"/>
            <a:ext cx="1933560" cy="128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e politiche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142920" y="1268280"/>
            <a:ext cx="9001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Sostenere la fami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vestimento ( non sp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iduce le necessità di 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- favorisce l’integrazione e la soci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- accresce la relazionalità tra le pres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- crea le premesse per una solidarietà familiare diff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ccia in giù 7"/>
          <p:cNvSpPr/>
          <p:nvPr/>
        </p:nvSpPr>
        <p:spPr>
          <a:xfrm>
            <a:off x="4284720" y="213372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LOGO AFI Trasparente 99K"/>
          <p:cNvPicPr/>
          <p:nvPr/>
        </p:nvPicPr>
        <p:blipFill>
          <a:blip r:embed="rId1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e politiche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6"/>
          <p:cNvSpPr/>
          <p:nvPr/>
        </p:nvSpPr>
        <p:spPr>
          <a:xfrm>
            <a:off x="142920" y="1268280"/>
            <a:ext cx="900108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Sostenere la fami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vestimento ( non sp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Aggiunge ricchezza al territo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iduce le situa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argin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over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cessità assisten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flittualità inter-et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ccia in giù 7"/>
          <p:cNvSpPr/>
          <p:nvPr/>
        </p:nvSpPr>
        <p:spPr>
          <a:xfrm>
            <a:off x="4284720" y="1916280"/>
            <a:ext cx="358560" cy="649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LOGO AFI Trasparente 99K"/>
          <p:cNvPicPr/>
          <p:nvPr/>
        </p:nvPicPr>
        <p:blipFill>
          <a:blip r:embed="rId1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Le politiche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6"/>
          <p:cNvSpPr/>
          <p:nvPr/>
        </p:nvSpPr>
        <p:spPr>
          <a:xfrm>
            <a:off x="142920" y="1268280"/>
            <a:ext cx="90010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Buone pra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6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tudiate </a:t>
            </a:r>
            <a:r>
              <a:rPr b="1" lang="it-IT" sz="2800" spc="-1" strike="noStrike" u="sng">
                <a:solidFill>
                  <a:srgbClr val="ff9900"/>
                </a:solidFill>
                <a:uFillTx/>
                <a:latin typeface="Arial"/>
              </a:rPr>
              <a:t>con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la fam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6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Estese ad una vasto numero di fami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6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vviano azioni significative, incisive, non  marg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6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Non sono assisten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in giù 7"/>
          <p:cNvSpPr/>
          <p:nvPr/>
        </p:nvSpPr>
        <p:spPr>
          <a:xfrm>
            <a:off x="4284720" y="2205000"/>
            <a:ext cx="360360" cy="6476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LOGO AFI Trasparente 99K"/>
          <p:cNvPicPr/>
          <p:nvPr/>
        </p:nvPicPr>
        <p:blipFill>
          <a:blip r:embed="rId1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Quanto investe l’It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Grafico 8" descr=""/>
          <p:cNvPicPr/>
          <p:nvPr/>
        </p:nvPicPr>
        <p:blipFill>
          <a:blip r:embed="rId1"/>
          <a:stretch/>
        </p:blipFill>
        <p:spPr>
          <a:xfrm>
            <a:off x="1036800" y="1189080"/>
            <a:ext cx="7211880" cy="5052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LOGO AFI Trasparente 99K"/>
          <p:cNvPicPr/>
          <p:nvPr/>
        </p:nvPicPr>
        <p:blipFill>
          <a:blip r:embed="rId2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28600" y="228600"/>
            <a:ext cx="8636040" cy="6248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Grafico 9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8474400" cy="631692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2"/>
          <p:cNvSpPr/>
          <p:nvPr/>
        </p:nvSpPr>
        <p:spPr>
          <a:xfrm>
            <a:off x="3348000" y="907920"/>
            <a:ext cx="3500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Detrazioni dal Red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Figli a ca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Anni  1987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73"/>
                </a:solidFill>
                <a:latin typeface="Arial"/>
              </a:rPr>
              <a:t>Reddito di 20.000 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LOGO AFI Trasparente 99K"/>
          <p:cNvPicPr/>
          <p:nvPr/>
        </p:nvPicPr>
        <p:blipFill>
          <a:blip r:embed="rId2"/>
          <a:stretch/>
        </p:blipFill>
        <p:spPr>
          <a:xfrm>
            <a:off x="395280" y="5661000"/>
            <a:ext cx="71424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0920" y="0"/>
            <a:ext cx="8713800" cy="6597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603840" y="627696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09680" y="12193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95640" y="1557360"/>
            <a:ext cx="4321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eff426"/>
                </a:solidFill>
                <a:latin typeface="Arial Rounded MT Bold"/>
              </a:rPr>
              <a:t>Quanto costa un figl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826920" y="26028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Politiche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 rot="7296000">
            <a:off x="2879640" y="217944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755640" y="2924280"/>
            <a:ext cx="57610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Arial"/>
              </a:rPr>
              <a:t>Manten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ang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Ves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rime neces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ura dei fig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cc"/>
                </a:solidFill>
                <a:latin typeface="Arial"/>
              </a:rPr>
              <a:t>NUOVA SCALA DI  EQUIVAL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564000" y="2924280"/>
            <a:ext cx="4824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Arial"/>
              </a:rPr>
              <a:t>Accres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pensione dei genitori ad investire sulla qualità dei figl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Sport - Vacanze -  Istruzione – Vestire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ima neces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 rot="4627800">
            <a:off x="4455720" y="2224080"/>
            <a:ext cx="720720" cy="486000"/>
          </a:xfrm>
          <a:prstGeom prst="right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ccia a destra 11"/>
          <p:cNvSpPr/>
          <p:nvPr/>
        </p:nvSpPr>
        <p:spPr>
          <a:xfrm rot="20509800">
            <a:off x="5628960" y="4857840"/>
            <a:ext cx="1800360" cy="14436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ffff00"/>
          </a:solidFill>
          <a:ln w="0">
            <a:solidFill>
              <a:srgbClr val="89a4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 rot="4159200">
            <a:off x="1972800" y="497664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LOGO AFI Trasparente 99K"/>
          <p:cNvPicPr/>
          <p:nvPr/>
        </p:nvPicPr>
        <p:blipFill>
          <a:blip r:embed="rId1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85840" y="0"/>
            <a:ext cx="8636040" cy="6534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99"/>
              </a:gs>
              <a:gs pos="100000">
                <a:srgbClr val="0000ff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57160" y="142920"/>
            <a:ext cx="7632720" cy="69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1535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Futura Lt BT"/>
                <a:ea typeface="Times New Roman"/>
              </a:rPr>
              <a:t>Scale di equival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ject 7" descr=""/>
          <p:cNvPicPr/>
          <p:nvPr/>
        </p:nvPicPr>
        <p:blipFill>
          <a:blip r:embed="rId1"/>
          <a:stretch/>
        </p:blipFill>
        <p:spPr>
          <a:xfrm>
            <a:off x="806400" y="1015920"/>
            <a:ext cx="7962840" cy="510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LOGO AFI Trasparente 99K"/>
          <p:cNvPicPr/>
          <p:nvPr/>
        </p:nvPicPr>
        <p:blipFill>
          <a:blip r:embed="rId2"/>
          <a:stretch/>
        </p:blipFill>
        <p:spPr>
          <a:xfrm>
            <a:off x="7885080" y="5661000"/>
            <a:ext cx="712800" cy="71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36:17Z</dcterms:created>
  <dc:creator>pippo</dc:creator>
  <dc:description/>
  <dc:language>en-US</dc:language>
  <cp:lastModifiedBy>pippo</cp:lastModifiedBy>
  <dcterms:modified xsi:type="dcterms:W3CDTF">2011-09-24T15:31:11Z</dcterms:modified>
  <cp:revision>270</cp:revision>
  <dc:subject/>
  <dc:title>Diapositiva 1</dc:title>
</cp:coreProperties>
</file>